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12B-B317-40C0-8C0A-1EA766C3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32F-AEC3-4A77-80BE-3A6F68F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A79-012D-4864-9D1D-70D02C23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475-E935-4384-833D-002DE85E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775-B849-4BA8-B565-2A74BA2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824-E397-4CF9-A68E-E07E5C36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C9A1-47D0-474F-AAA1-95CB921B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3BF-AADE-41E7-A8F8-3CB773E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B7C-320C-4C33-8738-A202A71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A28-01BB-4777-A8C5-E0E614DC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BA28-DD95-4FD7-89BA-3ABB930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D47-6279-4BF2-A3F3-0F1A9F6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3F2A-2ADB-4C5A-A315-6FD9DAD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19C1-F82B-45E5-9F9A-A732FED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4C0-DCDA-4543-A329-7D8154C3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1B3-AD23-45FE-8C42-DE422DF4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C33-24C1-40BD-9066-C81B004B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37F-CA96-4E10-B5A2-3236771F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E87-ABD0-4FD2-9C49-C29D4C2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DB0-28B0-4C19-B5EB-A9CA483C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986-1F5C-445E-94D3-7FBF58C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844-1A16-4BFA-9B77-6A36BFC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BC2-56F1-43F3-93F0-C8F075C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40B-0FB7-41D3-B036-030262B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341C-C4ED-4872-A217-657483D04A7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643D-530D-4017-8433-421395F88FF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0066"/>
                </a:solidFill>
                <a:latin typeface="comic"/>
              </a:rPr>
              <a:t>Housing Needs</a:t>
            </a:r>
            <a:endParaRPr b="1" lang="en-US" sz="7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06840" y="4860720"/>
            <a:ext cx="59292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Housing I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1.01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Sherry Brooks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David W Butler HS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674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Midyear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time between when children leave home and parents ret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Verdana"/>
              </a:rPr>
              <a:t>Aging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begins with retirement. At some point, a spouse may live alone due to death. This is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LARGEST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oup in USA today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t any given time, many families will overlap one or more sta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Individual Life Cyc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Infan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Newborn to one year old. Totally dependent on caregi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ildhoo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ages 1-12, still dependent on caregiv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Youth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Preteen to Late teen, becoming more independent but still living in family h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Adulthood/Ag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20-death: totally independent.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Baby-boomers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eople born 20 yr period after WWII, forms the largest group of Americans toda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Quality of Lif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fined as the degree of satisfaction obtained from lif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sonal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your idea of a perfect life. To some this is a very simple life with few conveniences, to others a large home and status in community and every possible conveni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ocie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king life and its quality better for everyone. Using your time, money, and energy to maintain and support efforts.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hanges in society have been due t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nger life spa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nges in economic conditions and working at ho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anges in family structures and roles, fashions and personal tas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creasing environmental awarenes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Housing Decis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pages 20-3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sagerave.files.wordpress.com/2008/01/maslow.gif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pyright © 2007, ABCD, All rights reserv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slow’s Hierarchy of 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057320"/>
            <a:ext cx="5715000" cy="58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most basic human needs. MUST be meet before any other need can be met. Shelter, water, food, rest, and warm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Psychologica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needs related to the mind and feeling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urity: protection from the outside world, both physical and the unknow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ve/acceptance: having your own space (bedroom) or be made a part of grou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eds con’t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Esteem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respect, admiration, and high regard from oth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Self-esteem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s awareness and appreciation of your own self-wort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Self-actualizatio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you have developed to your full potential as a person. In you chosen profession, you are the best. Often a life-long proc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Other Nee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Beau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qualities that give pleasure to the senses. An appreciation of beauty changes as you mature because you are exposed to new things and experi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Self-expressio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shown by the colors and styles (clothes, furniture, accessories) you choose. Also changes as you mature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Creativit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mbining 2 or more ideas/things to create something new to express yourself.  Painting, landscaping, sewing, cooking, arranging flowers, etc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Statu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terial possessions that are equal to a certain lifestyle. Large home in gated community, job, income, social standing (everyone knows your name and famil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Verdana"/>
              </a:rPr>
              <a:t>Priva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everyone needs some privacy for their own well-being. Need to be alone to process thoughts and to be creative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people in USA value privacy above most other needs and wants. Usually decorate homes to show individualism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Family Typ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Nuclear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includes BOTH parents and their children living under one roof. Children are born or adopt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Single paren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consist of one parent and at least one child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Step/blended family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consist of parents, one or both that may have been married before and includes children from a previous marri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Extended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Several generation of a family living together (children, parents, grandparent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Members of the same generation (brothers, sisters, cousins) all living in same househol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Childless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husband and wife who have never had children by choice or inabil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Family Life Cyc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Beginn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married with no childr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ildbear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uple with children up to 6 years ol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arenting/expand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ouple with children 6-20 years. Could move in order to be in certain school district, children are becoming old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aunchin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children are becoming adults and leaving home for college, taking a job, getting marri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9:19:16Z</dcterms:created>
  <dc:creator>s.brooks</dc:creator>
  <dc:description/>
  <dc:language>en-US</dc:language>
  <cp:lastModifiedBy>s.brooks</cp:lastModifiedBy>
  <dcterms:modified xsi:type="dcterms:W3CDTF">2009-04-22T16:20:59Z</dcterms:modified>
  <cp:revision>28</cp:revision>
  <dc:subject/>
  <dc:title>Slide 1</dc:title>
</cp:coreProperties>
</file>